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7.pct" ContentType="image/x-pict"/>
  <Override PartName="/ppt/media/image6.png" ContentType="image/png"/>
  <Override PartName="/ppt/media/image11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AEE2-C792-4AC4-BE2E-B933638F8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0D52-1EFD-4804-BBD3-8E3EB85ED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4EB1-E947-44CD-9C0D-6735D0ABA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4205-FC99-44BA-8E71-49CED7C86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95C4E-B3C3-4E41-9359-39744872A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605EA-A4B7-46FA-8ADF-33C64E83F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33F32-54FC-4D25-A064-F23A55846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FD5A5-B296-42B5-94E4-91CE23E08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6F684-BBAA-4B24-955D-B5E121671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1150F-9241-4C2C-ABDA-8D33095C2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82606-BF82-4BF5-82F2-3E043908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866F-3BD4-4A85-99B9-A2B5B1DC4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DE67B-CE04-48FE-9DFF-3E5985E4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6A715-B46A-411A-98B3-B9D05E5F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64BFE-9221-4EBD-9B76-F32F0E9B0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129C0-C931-4E81-9129-5B96173C5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E1A4F-23D5-424F-A44A-76E8D28BB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102F-A2EF-449E-9590-398B6B8E1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DCB0-E102-4637-BFCE-94E19918F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3696-767C-4949-A807-8DD3B425B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A7A9-BD1C-472F-AA96-D584DF46A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6067-9493-4281-8396-6A6A8F66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2172-91E9-4688-9055-FF9D756D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18CF-4E0B-425E-9D28-9A06DAC3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4A88F-1B12-49EF-9E81-06B8AED4DE57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592F7-0650-470D-99DA-FD5728F2F9F6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video" Target="file:///tmp/home/.config/libreoffice/4/user/gallery/Embedded%20Sound%201" TargetMode="External"/><Relationship Id="rId3" Type="http://schemas.microsoft.com/office/2007/relationships/media" Target="file:///tmp/home/.config/libreoffice/4/user/gallery/Embedded%20Sound%201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ct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621320" y="3562200"/>
            <a:ext cx="18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ヒラギノ角ゴ Pro W3"/>
              </a:rPr>
              <a:t>_x0010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048120" y="1371600"/>
            <a:ext cx="34290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ainting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038480" y="3581280"/>
            <a:ext cx="16239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inting occurs when the blood supply to the brain is cut off for a short period of time…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one who faints… loses consciousness for a period of time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23880" y="914400"/>
            <a:ext cx="6375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36147" dir="2700000" blurRad="0" rotWithShape="0">
                    <a:srgbClr val="c0c0c0"/>
                  </a:outerShdw>
                </a:effectLst>
                <a:latin typeface="Arial Black"/>
              </a:rPr>
              <a:t>What causes fainting????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36147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809880" y="3200400"/>
            <a:ext cx="160020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6095880" y="441972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f someone faints….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n’t start laugh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n’t just stand the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n’t run aw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n’t go out to e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n’t start screaming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n’t pick up the victi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3017880" y="1996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7543800" y="4038480"/>
            <a:ext cx="752400" cy="11480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6019920" y="4267080"/>
            <a:ext cx="1155600" cy="12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1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ヒラギノ角ゴ Pro W3"/>
              </a:rPr>
              <a:t>_x0010_f someone faints..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ise the victim’s leg 8 to 12 inch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osen any tight cloth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eck the victim’s breathing, keeping his or her airway op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Macintosh HD:Users:student:Desktop:ChorusKickAddedLayers.wav" descr=""/>
          <p:cNvPicPr/>
          <p:nvPr/>
        </p:nvPicPr>
        <p:blipFill>
          <a:blip r:embed="rId2"/>
          <a:stretch/>
        </p:blipFill>
        <p:spPr>
          <a:xfrm>
            <a:off x="3962520" y="51055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886200" y="5029200"/>
            <a:ext cx="114768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7606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the victim does not regain consciousness… get medical hel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 aware that fainting may signal a more serious condition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124080" y="4419720"/>
            <a:ext cx="2327400" cy="2124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2819520" y="762120"/>
            <a:ext cx="37335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36147" dir="2700000" blurRad="0" rotWithShape="0">
                    <a:srgbClr val="c0c0c0"/>
                  </a:outerShdw>
                </a:effectLst>
                <a:latin typeface="Impact"/>
              </a:rPr>
              <a:t>So now what???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36147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2133720" y="1828800"/>
            <a:ext cx="49402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hank you for watching!!!!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Made by Laura Noll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85800" y="617220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3T13:15:41Z</dcterms:created>
  <dc:creator>Kraybill Campus LMS</dc:creator>
  <dc:description/>
  <dc:language>en-US</dc:language>
  <cp:lastModifiedBy>Kraybill Campus LMS</cp:lastModifiedBy>
  <dcterms:modified xsi:type="dcterms:W3CDTF">2011-05-23T13:11:50Z</dcterms:modified>
  <cp:revision>3</cp:revision>
  <dc:subject/>
  <dc:title>PowerPoint Presentation</dc:title>
</cp:coreProperties>
</file>